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5271840" y="6314760"/>
            <a:ext cx="42577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4/</a:t>
            </a:r>
            <a:fld id="{9102D568-1FC5-4CF8-A3A7-DD37504F30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3286080" y="51912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2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95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7    T.Tammet    Programmeerimine       1  loeng 1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106C976E-ECBB-4CBD-A817-8DCD8ED6ED25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th.hws.edu/javanotes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j2se/downloads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ssejuhatus, meeldetuletus, Java kasutamine, Java ja C võrdlus, lihtsad näit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htimiskonstruktsioonid ja tsüklid. Funktsioonid ehk alamprogrammid. Lühisissejuhatus klassidesse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med. Massiivid ja struktuurid. Failid. Võrk. Veatöötl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ilide kasutamise jätk. Binaarne otsing, sorteerimine, rekursio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rteerimise jätk. Seejärel: objektid ja klassi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ktide jätk. Seejärel: Graafika ja kasutajalii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sutajaliides: komponendid, sündm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lmas praktikum: olulist, näiteid võrgurakendu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lmas praktikum: olulist, näiteid GUI tegemi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UI tegemise lisainfot. Otsingualgoritmide alg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singualgoritmide jätk. Neljanda praktikumi sissejuhat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erukamad andmestruktuurid. Puud, has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ldiste süntaksianalüü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rid, threadid ja protsessid: paralleeltöö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ndusmetoodikad ja abivahend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mi kirjutamise etapid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ting the program text into the compute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iling the program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ning the compiled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step - running the program - either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- program running without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- program running in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let- program running in a (web)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I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HelloWorld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A program to display the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"Hello World!" on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  // end of class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ileerim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HelloWorld.jav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HelloWorld.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neme käsurealt käima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call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with a defini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77640"/>
            <a:ext cx="7772400" cy="308160"/>
            <a:chOff x="838080" y="377640"/>
            <a:chExt cx="7772400" cy="308160"/>
          </a:xfrm>
        </p:grpSpPr>
        <p:sp>
          <p:nvSpPr>
            <p:cNvPr id="109" name=""/>
            <p:cNvSpPr/>
            <p:nvPr/>
          </p:nvSpPr>
          <p:spPr>
            <a:xfrm>
              <a:off x="838080" y="6843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0904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24120" y="4038480"/>
            <a:ext cx="57891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mpileerime:  javac Helloa.jav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lloa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ML failis: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ere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e on Hello apple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applet code = “Helloa”  width=120 height=12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 applet lopp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wt.* 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Helloa extends App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size(300, 50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drawString("Hello", 10,50);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iler,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664240" cy="113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ecuting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8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rjandus, vi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mumisajad, lektor, assistendid, eksam j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 tööd, tähtajad, põhimõt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mootor, kompileerimine, eripär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eesmärk, eeldused, põhimõt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Õpetada programmeerimise aluseid ja tehnoloogiat üldise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ldades kerget varasemat kokkupuutumist programmeerimisega vähemalt eeldusaine Informaatika II mah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õhk on praktiliste kogemuste ja oskuste omandamisel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aktikumitöö on tähtsam, kui loe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askeelena kasutatakse Javat, vältides samas eriliselt Java-päraseid meetodeid, teeke jms. Ei ole spetsiaalne “Java-kursus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es loodavad rakendused on reeglina käsurea ja omaette akendega rakendused, mitte aplet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lõpetaja on all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GAJ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grammeerij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aeg, koht, eksam, praktiku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d: kolmapäeviti kell 14.00-15.30 ruumis VII-131 (kohe fuajee kõrval)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id loeb T.Tamm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kku 16 (?) loeng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 eraldi AK arvutiklassides: eri gruppidel eri aegadel, 1 praktikum näda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e korraldavad assistend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 lõpe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KSAMIG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edukaks lõpetamiseks tuleb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ha ära praktilised tööd, neid tuleb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oritada edukalt ek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materjali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www-leh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lambda.ee/index/Programmeerimise_põhikurs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mine õpik kursuse juurde on tasuta e-boo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E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“Introduction to Programming Using Jav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fth  Edition,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math.hws.edu/javanotes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rjalid ilmuvad loengute eel või järel võrku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ksami ja praktikumi ülesanded ja nõud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2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: kirjalik, lisamaterjale kasutada ei võ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eseisev töö (ei mingeid grupp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ssejuhatav ülesanne: see nä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li ülesan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mene rakendus: tikumäng, ainult tekstili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9. septe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on esialgsed variandid, mida muudetak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kstifailidest mikroandmebaas, ainult tekstili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7 oktoo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võrgurakendus (http-d kasutav kli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 24. nov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connect-four mäng (otsing mängupuus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2. dets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lulist praktikumi koh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7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ile pääsemiseks peavad olema sooritatud vähemalt kolm neljast praktikumi-ülesandes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hul, kui üks neljast ülesandest jääb realiseerimata, saab selle eest eksamil 10 trahvipunkti (eksami maksimumpunktid on 10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hilinenud ülesanne annab 5 trahvipunkt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ärast 22. detsembrit ei aktsepteerita enam ühtegi ülesanne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ülesanne tuleb programmeerida iseseisvalt ja näidata praktikumi juhendajale praktikumi ajal et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postiga saadetud lahendusi ei aktsepteerit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Ülesande arvestamiseks ütle juhendajale praktikumi ajal ise, kui soovid lahendatud ülesannet näidata: juhendaja ei hakka reeglina ise õigeagselt uurima, et kas on ülesanne ikka teh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jalik tarkvara kodus töötamiseks (kes soovib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versioon J2SE (Java 2 standard edition) JDK (software development kit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õmba SUN-i lehelt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ava.sun.com/j2se/downloads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ähemalt 1.5 või uuem versi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di vanemate versioonide (1.3.1 ja uuemad) kasutamine on sama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Vajalik on JDK (vana nimi oli SDK), mitte JRE, ja nimelt J2SE (standard edition), mitte J2ME (micro edition) või J2EE (enterprise edi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 ja lihtne programmeerisele kohandatud tekstiredaktor. Soovitan redaktorit SciTE: http://www.scintilla.org/SciT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teema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ember: juhtimiskonstruktsioonid, andm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ktoober: objektid, kasutajaliides ja graafik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er: otsing, rekursioon, puu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sember: paralleeltöö, metoodika, va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